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FCA-8C2F-4799-896B-476666F9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B05-ECA4-4FEF-A2F6-E7722D49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685-6115-4D05-8B33-29ABABE5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C057-2FFE-47D3-BE5D-BF5BD3C8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D3F4-C1A5-4777-B7FD-CCCC5D3C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86DC-F777-436F-BAEB-DBEEC950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7384-43BF-4A57-BFEC-EAD104C5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67CE-9BA0-4972-9A7F-EACC02A6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D844-B2F9-45EF-AA14-70B4B4D9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E755-2B47-450B-8D48-E3C31C51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083E-DA07-4AAF-925F-83AE4D18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AEE0-AFBC-42D9-A567-ED1CB20F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43C5-48AB-4EA0-A02B-F3F780D5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1C01-B8C7-404D-B928-F8DB81BB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90DA-85C9-4891-809C-FDA973EC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F5DA-F910-4532-9708-EC3DB028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2C61-6731-4716-B643-91D3BFAD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682-CD89-4218-86F6-5EAD2EA9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E22D-01F8-4120-9532-50F7B8B4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08B-05A2-4608-B7AD-3753ABE8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96D-2AC4-42E2-B11A-FF5DD5C7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324-1B9D-430F-8B6C-801DC1D2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B1D-D19F-4529-8D76-F616C84D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2B90-4118-4E34-B5ED-736163F1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31A5-26FC-481B-801E-087A6CB704A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EBCA-99E8-4273-896E-6551904FE8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052640"/>
            <a:ext cx="7273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МИНСПОРТТУРИЗМА РОССИИ</a:t>
            </a:r>
            <a:br>
              <a:rPr sz="1200"/>
            </a:b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</a:t>
            </a:r>
            <a:br>
              <a:rPr sz="1200"/>
            </a:b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ККО ОГО ВФСО «ДИНАМО»</a:t>
            </a:r>
            <a:br>
              <a:rPr sz="1200"/>
            </a:b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ДЕПАРТАМЕНТ ПО ФИЗИЧЕСКОЙ КУЛЬТУРЕ И СПОРТУ КРАСНОДАРСКОГО КРАЯ 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сероссийские соревнования памяти А. Луне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длинные метания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4-25.02.2010 г.                           г. Адлер с/к «Юность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сероссийские соревнования памяти А. Лунев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длинные метания) 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2276640"/>
          <a:ext cx="7991280" cy="3651120"/>
        </p:xfrm>
        <a:graphic>
          <a:graphicData uri="http://schemas.openxmlformats.org/drawingml/2006/table">
            <a:tbl>
              <a:tblPr/>
              <a:tblGrid>
                <a:gridCol w="3382920"/>
                <a:gridCol w="2251080"/>
                <a:gridCol w="1806480"/>
                <a:gridCol w="550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. делег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ов С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и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 соревно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ицын А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арь С.Б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главного секрета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шкова Е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пович В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коп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ьянов А.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у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мо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ганов П.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д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тюх И.Н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-Новг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оборудова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ов А.В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нбу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ммм</cp:lastModifiedBy>
  <dcterms:modified xsi:type="dcterms:W3CDTF">2010-02-25T14:20:19Z</dcterms:modified>
  <cp:revision>15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